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670B-E486-41F7-843C-F28ADE153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40EC-7875-41FF-9593-E6B34B3AE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8049DF-60F4-4264-9125-8B427ACAD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BAAED3-5FD1-431C-990D-0C2CF854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828104-1BAD-470E-A953-558CA99DB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ACF66A-3E37-4C69-B320-85172E52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7C805D-4F03-48DB-94E5-CAB052F3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5074A8-DB35-4033-8535-B195A7C3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DBFFB4-065C-473E-BB47-7B6830CB6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86838D-3F5D-4D49-AA02-5891935A3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E15A4A-86FF-45CE-B6B0-AEB02CA09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3F4F2F-F2B0-46AD-8928-AF34B223F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4F46-1742-47A4-A860-2D6C01CB3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DB6750-C170-4715-A061-F614A97D5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111585-D2D1-42E8-88C7-D121DF1CF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07F5F6-1176-4999-89AA-8CC579783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99F3B3-B13B-44EB-B8F7-2AA3932C7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E321AD-222D-4B85-AD17-8BA42888B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1D63AA-1A52-4304-9F54-93F2A795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4B8317-89A3-47F2-AA00-81E0DD44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2745D8-ED6F-4AFD-BCEB-B9165E38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17DE82-BD45-4BCC-9974-BA552B960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99942D-2602-4E5E-9966-08C8CA91A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A212-4CAC-46EB-B698-2C44F86AE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ABAECB-304B-4AA1-BDB8-CF4063EC0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0C387-EF4D-4F7A-ADF1-851520A74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2864F-5081-48C9-B3CA-FE3E0641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9EAA7-9DFC-4CAB-886F-F94DBA5DD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648BD-5A8B-4233-B653-59B3E8B98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467D5-2C4D-41C4-AE7D-3E22EA965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122BF-FA4C-41FD-9606-83EA3B8DE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B8A2A-D816-4CE6-A2F3-D9FE4580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7666-B98F-4146-A178-21D0AA06C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5AC22-67A9-41AF-80CE-44B3C6BA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1D178-7347-41FE-A28B-59F97593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F59DF-BA8A-4CF6-A882-2616D9D0F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A4E3A-33BE-46A6-994F-DA7AF7237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A4D8B-4557-4833-8EDD-308BDE495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16A02-1474-4AC3-8BF0-A3719573E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4B7BB-520C-4132-928C-FA2CD62F4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F2E16-9234-43D0-ABBC-E3A83F6CF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A54AA-E27A-4D38-A8CD-ACCD787E6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64631-50AB-498A-BD08-BB423734B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F812-5D39-4C65-8CB4-6C77F4DE9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4AA8C-077F-43B7-AA28-F4B24C2B6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77076-30EE-4F9D-97FB-2AFF722C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FD2FF-C709-4E59-88D6-E03F2D89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89002-84BA-4B2B-8733-6279F8CB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5CA3D-7243-491E-8A09-020A09069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F8333-8597-4A6D-A627-ADC1916A4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A3C52-55C0-480F-9AA3-902AEBCE9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1EE95-7A69-42F2-AC6D-7A41FA86C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92EBB-D23A-4C12-A36D-86C3200B6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A220A-B35B-4A50-ACBD-9404C58FD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B045-9418-4D5B-A9BF-624323E86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BB34B-736D-472C-B8F1-05CC0901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DD616-F1C3-45F6-8920-6974E5BEB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227EA-268E-4177-A39F-97F1F09C7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5A02D-987C-4E16-8224-7E3E0050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505FE-40D7-4B0E-97B9-C07E17FA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CD0EC-F84F-4647-87E1-E5A151DA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D3AED-8BCE-4481-89DA-2FF573973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EC395-EEBB-458D-AEAA-A54DE4D4E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FC2D8-660A-4582-874B-7F0C1A4D3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F48BD-EB1D-4781-822E-20AFEE0DB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8DF7-BEFC-4D84-BB80-E318B5DF9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7FEA1-50E5-4084-AFA8-02FB4D3EB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4FAD5-FFFF-4AAA-93B0-C89900A8B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DAD85-0EEF-4109-ABA6-DBEAB67BF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1E43A-C502-4094-888D-B3F4ED777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D6116-B17E-408E-AC4A-808A45DC9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F263A-3CEC-4544-85B2-E8C55CE5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75F09-CA3C-4C8B-AE37-4C5BD0DE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C9C69-582B-4257-849C-0C2D28B0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628E1-FEC3-4E7F-A0CD-5A3A3DBED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2DD0E-674E-40D6-8D9D-921D3F782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62B1-FC08-4D50-ACDD-8941839A4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62138-83DA-4663-BA6B-58B4A3A8B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DD9300-F54C-413F-8948-513C1127E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382A6-A721-4DE0-BD09-F688FD561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DEE17-7343-4109-A0C9-188ACE512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135E4-9EF9-4EE1-9B31-DDC80D125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3203C-326E-4B41-96EC-4582FE107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B713C-7308-428B-A15C-613F96F8A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B0F17-194F-455F-975D-8061CBBD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68D47-CC8D-4B23-B5B3-90E676C4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2BF72-221A-46FC-BCA3-C1529E37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0955-4CAB-4E1D-8952-9206582A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86FF00-37DF-49BE-8D42-FC294CA3F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2C5D3-47B0-49CC-8B71-81882FFEA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CB508-7809-4A31-B33A-B6A84DD1C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49B22-3865-43FC-B8A0-53AAA54FD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E9F15F-2E89-4D63-8EF3-9514F8CEE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1530D-A95B-448D-9B41-B61E21B2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26D74-8DB6-4238-9D06-2D8A26CDA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64AE7-8D5A-4458-B155-E80BFB630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6C673-F20B-426D-910B-168403232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A1070-17E5-42D2-A88D-E3378574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72AC-7899-41D8-B687-C0666F5F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F136D1-EBA5-4800-8C5E-6EF90B12E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A97482-592E-4078-8ACA-7C450359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974D0-6EBA-47B4-8E16-3915113FF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D4EEA-6BE9-4CC1-8AC6-FC08DD0C6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27C66E-09AD-4C65-8967-4C3391734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D1B6AE-AF10-4E95-B2B8-9D10732BB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0A6031-A53D-47E6-98EA-D0D29945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480FC6-7CEB-478B-9135-1EECC4F7A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4178B4-C26E-4848-B485-FBE188F03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C7B7D7-0E48-4840-9DA7-F60956242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2D62-E2A6-497C-AD25-31C1F3D0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CB2AEE-058F-4E47-AA08-19BD3A494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2F5B44-DEC6-433B-9758-66483F5A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291662-FDA5-43B9-AD7F-41DBD8F6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3615B3-B1F7-4ED6-A077-F59F0876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D073FF-0868-43A6-9605-DF8A9C1E6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0D898D-AA90-4255-BC48-E66B2538E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6757C2-BED1-49F3-9101-CBD0CBA34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A93825-F18E-4CB2-A796-EB1529FBF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E5D138-C27B-410D-8557-627356C83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1277E2-9B2E-4276-9D4E-5895E6FC0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44611-9841-46C2-A001-66CE3FD078CA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449" name="Freeform 9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450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Rectangle 10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1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03A96-48C8-488A-AB79-000CF9B8E514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6" descr="2.png"/>
          <p:cNvPicPr/>
          <p:nvPr/>
        </p:nvPicPr>
        <p:blipFill>
          <a:blip r:embed="rId2"/>
          <a:stretch/>
        </p:blipFill>
        <p:spPr>
          <a:xfrm>
            <a:off x="5072040" y="3571920"/>
            <a:ext cx="3718080" cy="3286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0"/>
          <p:cNvGrpSpPr/>
          <p:nvPr/>
        </p:nvGrpSpPr>
        <p:grpSpPr>
          <a:xfrm>
            <a:off x="7287480" y="716400"/>
            <a:ext cx="867600" cy="1688400"/>
            <a:chOff x="7287480" y="716400"/>
            <a:chExt cx="867600" cy="1688400"/>
          </a:xfrm>
        </p:grpSpPr>
        <p:sp>
          <p:nvSpPr>
            <p:cNvPr id="44" name="Rectangle 19"/>
            <p:cNvSpPr/>
            <p:nvPr/>
          </p:nvSpPr>
          <p:spPr>
            <a:xfrm rot="360000">
              <a:off x="7868880" y="87876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8"/>
            <p:cNvGrpSpPr/>
            <p:nvPr/>
          </p:nvGrpSpPr>
          <p:grpSpPr>
            <a:xfrm>
              <a:off x="7287480" y="716400"/>
              <a:ext cx="669960" cy="1688400"/>
              <a:chOff x="7287480" y="716400"/>
              <a:chExt cx="669960" cy="1688400"/>
            </a:xfrm>
          </p:grpSpPr>
          <p:sp>
            <p:nvSpPr>
              <p:cNvPr id="46" name="Rectangle 16"/>
              <p:cNvSpPr/>
              <p:nvPr/>
            </p:nvSpPr>
            <p:spPr>
              <a:xfrm rot="360000">
                <a:off x="7425720" y="740880"/>
                <a:ext cx="50292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17"/>
              <p:cNvSpPr/>
              <p:nvPr/>
            </p:nvSpPr>
            <p:spPr>
              <a:xfrm rot="360000">
                <a:off x="7341840" y="1310760"/>
                <a:ext cx="50292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Group 26"/>
          <p:cNvGrpSpPr/>
          <p:nvPr/>
        </p:nvGrpSpPr>
        <p:grpSpPr>
          <a:xfrm>
            <a:off x="7856640" y="1067400"/>
            <a:ext cx="966600" cy="1712880"/>
            <a:chOff x="7856640" y="1067400"/>
            <a:chExt cx="966600" cy="1712880"/>
          </a:xfrm>
        </p:grpSpPr>
        <p:sp>
          <p:nvSpPr>
            <p:cNvPr id="49" name="Rectangle 22"/>
            <p:cNvSpPr/>
            <p:nvPr/>
          </p:nvSpPr>
          <p:spPr>
            <a:xfrm rot="600000">
              <a:off x="8488440" y="124632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4"/>
            <p:cNvSpPr/>
            <p:nvPr/>
          </p:nvSpPr>
          <p:spPr>
            <a:xfrm rot="600000">
              <a:off x="8082000" y="110664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25"/>
            <p:cNvSpPr/>
            <p:nvPr/>
          </p:nvSpPr>
          <p:spPr>
            <a:xfrm rot="600000">
              <a:off x="7945560" y="167436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41"/>
          <p:cNvGrpSpPr/>
          <p:nvPr/>
        </p:nvGrpSpPr>
        <p:grpSpPr>
          <a:xfrm>
            <a:off x="0" y="1809720"/>
            <a:ext cx="9144000" cy="120600"/>
            <a:chOff x="0" y="1809720"/>
            <a:chExt cx="9144000" cy="120600"/>
          </a:xfrm>
        </p:grpSpPr>
        <p:sp>
          <p:nvSpPr>
            <p:cNvPr id="53" name="Straight Connector 31"/>
            <p:cNvSpPr/>
            <p:nvPr/>
          </p:nvSpPr>
          <p:spPr>
            <a:xfrm>
              <a:off x="0" y="180972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33"/>
            <p:cNvSpPr/>
            <p:nvPr/>
          </p:nvSpPr>
          <p:spPr>
            <a:xfrm>
              <a:off x="0" y="1865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traight Connector 34"/>
            <p:cNvSpPr/>
            <p:nvPr/>
          </p:nvSpPr>
          <p:spPr>
            <a:xfrm>
              <a:off x="0" y="19288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Group 277" descr=""/>
          <p:cNvPicPr/>
          <p:nvPr/>
        </p:nvPicPr>
        <p:blipFill>
          <a:blip r:embed="rId3"/>
          <a:stretch/>
        </p:blipFill>
        <p:spPr>
          <a:xfrm>
            <a:off x="438120" y="2298600"/>
            <a:ext cx="1414440" cy="1498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A5637-3A16-4A81-882C-7476EE5F7BF7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6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roup 277" descr=""/>
          <p:cNvPicPr/>
          <p:nvPr/>
        </p:nvPicPr>
        <p:blipFill>
          <a:blip r:embed="rId2"/>
          <a:stretch/>
        </p:blipFill>
        <p:spPr>
          <a:xfrm>
            <a:off x="317520" y="212760"/>
            <a:ext cx="96840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103" name="Freeform 14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104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16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A0E7D-7695-42CD-8289-1735F8DD243A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>
            <a:off x="0" y="4718160"/>
            <a:ext cx="9144000" cy="17287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7031880" y="3440520"/>
            <a:ext cx="867960" cy="1688400"/>
            <a:chOff x="7031880" y="3440520"/>
            <a:chExt cx="867960" cy="1688400"/>
          </a:xfrm>
        </p:grpSpPr>
        <p:sp>
          <p:nvSpPr>
            <p:cNvPr id="151" name="Rectangle 7"/>
            <p:cNvSpPr/>
            <p:nvPr/>
          </p:nvSpPr>
          <p:spPr>
            <a:xfrm rot="360000">
              <a:off x="7613640" y="360288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18"/>
            <p:cNvGrpSpPr/>
            <p:nvPr/>
          </p:nvGrpSpPr>
          <p:grpSpPr>
            <a:xfrm>
              <a:off x="7031880" y="3440520"/>
              <a:ext cx="670320" cy="1688400"/>
              <a:chOff x="7031880" y="3440520"/>
              <a:chExt cx="670320" cy="1688400"/>
            </a:xfrm>
          </p:grpSpPr>
          <p:sp>
            <p:nvSpPr>
              <p:cNvPr id="153" name="Rectangle 9"/>
              <p:cNvSpPr/>
              <p:nvPr/>
            </p:nvSpPr>
            <p:spPr>
              <a:xfrm rot="360000">
                <a:off x="7170120" y="3465000"/>
                <a:ext cx="50328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 rot="360000">
                <a:off x="7086240" y="4034880"/>
                <a:ext cx="50328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Group 11"/>
          <p:cNvGrpSpPr/>
          <p:nvPr/>
        </p:nvGrpSpPr>
        <p:grpSpPr>
          <a:xfrm>
            <a:off x="7620120" y="3791520"/>
            <a:ext cx="966600" cy="1712880"/>
            <a:chOff x="7620120" y="3791520"/>
            <a:chExt cx="966600" cy="1712880"/>
          </a:xfrm>
        </p:grpSpPr>
        <p:sp>
          <p:nvSpPr>
            <p:cNvPr id="156" name="Rectangle 12"/>
            <p:cNvSpPr/>
            <p:nvPr/>
          </p:nvSpPr>
          <p:spPr>
            <a:xfrm rot="600000">
              <a:off x="8251920" y="397044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 rot="600000">
              <a:off x="7845480" y="383076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 rot="600000">
              <a:off x="7709040" y="439848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0" y="4575240"/>
            <a:ext cx="9144000" cy="120600"/>
            <a:chOff x="0" y="4575240"/>
            <a:chExt cx="9144000" cy="120600"/>
          </a:xfrm>
        </p:grpSpPr>
        <p:sp>
          <p:nvSpPr>
            <p:cNvPr id="160" name="Straight Connector 15"/>
            <p:cNvSpPr/>
            <p:nvPr/>
          </p:nvSpPr>
          <p:spPr>
            <a:xfrm>
              <a:off x="0" y="45752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>
              <a:off x="0" y="46306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Straight Connector 17"/>
            <p:cNvSpPr/>
            <p:nvPr/>
          </p:nvSpPr>
          <p:spPr>
            <a:xfrm>
              <a:off x="0" y="46944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Group 277" descr=""/>
          <p:cNvPicPr/>
          <p:nvPr/>
        </p:nvPicPr>
        <p:blipFill>
          <a:blip r:embed="rId2"/>
          <a:stretch/>
        </p:blipFill>
        <p:spPr>
          <a:xfrm>
            <a:off x="360360" y="5005440"/>
            <a:ext cx="992160" cy="1066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695EB-855F-43AF-80F7-028BD4836DC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208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209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Straight Connector 13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475B3-5F01-4212-B110-DB4DB987BDC0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0" y="1143000"/>
            <a:ext cx="9144000" cy="120600"/>
            <a:chOff x="0" y="1143000"/>
            <a:chExt cx="9144000" cy="120600"/>
          </a:xfrm>
        </p:grpSpPr>
        <p:sp>
          <p:nvSpPr>
            <p:cNvPr id="257" name="Straight Connector 11"/>
            <p:cNvSpPr/>
            <p:nvPr/>
          </p:nvSpPr>
          <p:spPr>
            <a:xfrm>
              <a:off x="0" y="11430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Straight Connector 12"/>
            <p:cNvSpPr/>
            <p:nvPr/>
          </p:nvSpPr>
          <p:spPr>
            <a:xfrm>
              <a:off x="0" y="11984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Straight Connector 13"/>
            <p:cNvSpPr/>
            <p:nvPr/>
          </p:nvSpPr>
          <p:spPr>
            <a:xfrm>
              <a:off x="0" y="1262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Group 277" descr=""/>
          <p:cNvPicPr/>
          <p:nvPr/>
        </p:nvPicPr>
        <p:blipFill>
          <a:blip r:embed="rId2"/>
          <a:stretch/>
        </p:blipFill>
        <p:spPr>
          <a:xfrm>
            <a:off x="285840" y="14616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AB8F9-D407-4FE7-8FEB-3C3B170A465A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05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06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BF115-031C-4BC9-AC28-6A0F3536795E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0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54" name="Freeform 11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5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Rectangle 12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9EE86-39AC-40BE-A2AB-6A204D17FE08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9144000" cy="13906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0" y="1380960"/>
            <a:ext cx="9144000" cy="120960"/>
            <a:chOff x="0" y="1380960"/>
            <a:chExt cx="9144000" cy="120960"/>
          </a:xfrm>
        </p:grpSpPr>
        <p:sp>
          <p:nvSpPr>
            <p:cNvPr id="402" name="Straight Connector 8"/>
            <p:cNvSpPr/>
            <p:nvPr/>
          </p:nvSpPr>
          <p:spPr>
            <a:xfrm>
              <a:off x="0" y="13809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Straight Connector 9"/>
            <p:cNvSpPr/>
            <p:nvPr/>
          </p:nvSpPr>
          <p:spPr>
            <a:xfrm>
              <a:off x="0" y="14367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Straight Connector 10"/>
            <p:cNvSpPr/>
            <p:nvPr/>
          </p:nvSpPr>
          <p:spPr>
            <a:xfrm>
              <a:off x="0" y="15004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72D9F-6F3F-468E-B05C-B19EF2C04AED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2998440"/>
            <a:ext cx="629136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굴림"/>
              </a:rPr>
              <a:t>KORN 101-0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1499760" y="4856040"/>
            <a:ext cx="698508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LESSON 6. </a:t>
            </a: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사과가 있습니까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6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: _________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가 있습니까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가 있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	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__________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도 있습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	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아니요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은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는 없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책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공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라디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텔레비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선풍기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에어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언니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오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남동생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여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7" name="Picture 4" descr=""/>
          <p:cNvPicPr/>
          <p:nvPr/>
        </p:nvPicPr>
        <p:blipFill>
          <a:blip r:embed="rId1"/>
          <a:stretch/>
        </p:blipFill>
        <p:spPr>
          <a:xfrm>
            <a:off x="5364000" y="3881520"/>
            <a:ext cx="1743120" cy="2619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숙제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ssignment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TB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리사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사과가 있습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있습니까 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= </a:t>
            </a: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팝니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아주머니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있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리사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배도 있습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아주머니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아니요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배는 없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DIALOGUE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사과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app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있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(be verb), exist, pre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가게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st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아주머니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(married) woman 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아저씨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ma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배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p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없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be no, do not exist, have 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도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 also, ~ too; a subject post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이것은 책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그것도 책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나는 한국말을 압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중국말도 압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학교에서 공부합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집에서도 공부합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 txBox="1"/>
          <p:nvPr/>
        </p:nvSpPr>
        <p:spPr>
          <a:xfrm>
            <a:off x="50328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창문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연필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penci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시간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운동화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sneaker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냉면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Naengmyeo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소주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Soju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라디오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radio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선풍기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electric fa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언니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elder siste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남동생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younger brothe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49892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담배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cigarett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약속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promis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볼펜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ball pe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돈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money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맥주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bee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카드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card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텔레비젼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televisio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에어컨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air-conditione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오빠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elder brothe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여동생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younger siste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보충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dditional 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Pattern Drill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가 있습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가 없습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창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담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연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약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친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8" name="Picture 4" descr=""/>
          <p:cNvPicPr/>
          <p:nvPr/>
        </p:nvPicPr>
        <p:blipFill>
          <a:blip r:embed="rId1"/>
          <a:stretch/>
        </p:blipFill>
        <p:spPr>
          <a:xfrm>
            <a:off x="2556000" y="2738520"/>
            <a:ext cx="2390760" cy="191448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5" descr=""/>
          <p:cNvPicPr/>
          <p:nvPr/>
        </p:nvPicPr>
        <p:blipFill>
          <a:blip r:embed="rId2"/>
          <a:stretch/>
        </p:blipFill>
        <p:spPr>
          <a:xfrm>
            <a:off x="4946760" y="2732040"/>
            <a:ext cx="2209680" cy="148896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6" descr=""/>
          <p:cNvPicPr/>
          <p:nvPr/>
        </p:nvPicPr>
        <p:blipFill>
          <a:blip r:embed="rId3"/>
          <a:stretch/>
        </p:blipFill>
        <p:spPr>
          <a:xfrm>
            <a:off x="6986520" y="2489040"/>
            <a:ext cx="2162160" cy="211464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7" descr=""/>
          <p:cNvPicPr/>
          <p:nvPr/>
        </p:nvPicPr>
        <p:blipFill>
          <a:blip r:embed="rId4"/>
          <a:stretch/>
        </p:blipFill>
        <p:spPr>
          <a:xfrm>
            <a:off x="2575080" y="4827600"/>
            <a:ext cx="2600280" cy="17622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8" descr=""/>
          <p:cNvPicPr/>
          <p:nvPr/>
        </p:nvPicPr>
        <p:blipFill>
          <a:blip r:embed="rId5"/>
          <a:stretch/>
        </p:blipFill>
        <p:spPr>
          <a:xfrm>
            <a:off x="5292720" y="4627440"/>
            <a:ext cx="2114640" cy="2162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__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 있습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가 있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        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아니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가 없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교과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안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시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Picture 9" descr=""/>
          <p:cNvPicPr/>
          <p:nvPr/>
        </p:nvPicPr>
        <p:blipFill>
          <a:blip r:embed="rId1"/>
          <a:stretch/>
        </p:blipFill>
        <p:spPr>
          <a:xfrm>
            <a:off x="2627280" y="3429000"/>
            <a:ext cx="2552760" cy="179064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0" descr=""/>
          <p:cNvPicPr/>
          <p:nvPr/>
        </p:nvPicPr>
        <p:blipFill>
          <a:blip r:embed="rId2"/>
          <a:stretch/>
        </p:blipFill>
        <p:spPr>
          <a:xfrm>
            <a:off x="5202360" y="3419640"/>
            <a:ext cx="1987560" cy="130464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1" descr=""/>
          <p:cNvPicPr/>
          <p:nvPr/>
        </p:nvPicPr>
        <p:blipFill>
          <a:blip r:embed="rId3"/>
          <a:stretch/>
        </p:blipFill>
        <p:spPr>
          <a:xfrm>
            <a:off x="6918480" y="3419640"/>
            <a:ext cx="2185920" cy="143496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12" descr=""/>
          <p:cNvPicPr/>
          <p:nvPr/>
        </p:nvPicPr>
        <p:blipFill>
          <a:blip r:embed="rId4"/>
          <a:stretch/>
        </p:blipFill>
        <p:spPr>
          <a:xfrm>
            <a:off x="2603520" y="5219640"/>
            <a:ext cx="2952720" cy="15526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13" descr=""/>
          <p:cNvPicPr/>
          <p:nvPr/>
        </p:nvPicPr>
        <p:blipFill>
          <a:blip r:embed="rId5"/>
          <a:stretch/>
        </p:blipFill>
        <p:spPr>
          <a:xfrm>
            <a:off x="5796000" y="4941720"/>
            <a:ext cx="2628720" cy="1743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가 있습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  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도 있습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연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볼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책상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의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구두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운동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시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Picture 4" descr=""/>
          <p:cNvPicPr/>
          <p:nvPr/>
        </p:nvPicPr>
        <p:blipFill>
          <a:blip r:embed="rId1"/>
          <a:stretch/>
        </p:blipFill>
        <p:spPr>
          <a:xfrm>
            <a:off x="3443400" y="2205000"/>
            <a:ext cx="2017440" cy="151128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5" descr=""/>
          <p:cNvPicPr/>
          <p:nvPr/>
        </p:nvPicPr>
        <p:blipFill>
          <a:blip r:embed="rId2"/>
          <a:stretch/>
        </p:blipFill>
        <p:spPr>
          <a:xfrm>
            <a:off x="5508720" y="2185920"/>
            <a:ext cx="1590480" cy="165600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6" descr=""/>
          <p:cNvPicPr/>
          <p:nvPr/>
        </p:nvPicPr>
        <p:blipFill>
          <a:blip r:embed="rId3"/>
          <a:stretch/>
        </p:blipFill>
        <p:spPr>
          <a:xfrm>
            <a:off x="7093080" y="2185920"/>
            <a:ext cx="1946160" cy="145728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7" descr=""/>
          <p:cNvPicPr/>
          <p:nvPr/>
        </p:nvPicPr>
        <p:blipFill>
          <a:blip r:embed="rId4"/>
          <a:stretch/>
        </p:blipFill>
        <p:spPr>
          <a:xfrm>
            <a:off x="3467160" y="3749760"/>
            <a:ext cx="1511280" cy="115236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8" descr=""/>
          <p:cNvPicPr/>
          <p:nvPr/>
        </p:nvPicPr>
        <p:blipFill>
          <a:blip r:embed="rId5"/>
          <a:stretch/>
        </p:blipFill>
        <p:spPr>
          <a:xfrm>
            <a:off x="3443400" y="4894200"/>
            <a:ext cx="1558800" cy="118908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9" descr=""/>
          <p:cNvPicPr/>
          <p:nvPr/>
        </p:nvPicPr>
        <p:blipFill>
          <a:blip r:embed="rId6"/>
          <a:stretch/>
        </p:blipFill>
        <p:spPr>
          <a:xfrm>
            <a:off x="5219640" y="433224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을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를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도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친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만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선물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불고기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먹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냉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맥주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마시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소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편지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쓰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카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Picture 8" descr=""/>
          <p:cNvPicPr/>
          <p:nvPr/>
        </p:nvPicPr>
        <p:blipFill>
          <a:blip r:embed="rId1"/>
          <a:stretch/>
        </p:blipFill>
        <p:spPr>
          <a:xfrm>
            <a:off x="4500720" y="2766960"/>
            <a:ext cx="2171520" cy="210492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9" descr=""/>
          <p:cNvPicPr/>
          <p:nvPr/>
        </p:nvPicPr>
        <p:blipFill>
          <a:blip r:embed="rId2"/>
          <a:stretch/>
        </p:blipFill>
        <p:spPr>
          <a:xfrm>
            <a:off x="6676920" y="2766960"/>
            <a:ext cx="1233720" cy="92412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0" descr=""/>
          <p:cNvPicPr/>
          <p:nvPr/>
        </p:nvPicPr>
        <p:blipFill>
          <a:blip r:embed="rId3"/>
          <a:stretch/>
        </p:blipFill>
        <p:spPr>
          <a:xfrm>
            <a:off x="6683400" y="3691080"/>
            <a:ext cx="1233360" cy="92376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11" descr=""/>
          <p:cNvPicPr/>
          <p:nvPr/>
        </p:nvPicPr>
        <p:blipFill>
          <a:blip r:embed="rId4"/>
          <a:stretch/>
        </p:blipFill>
        <p:spPr>
          <a:xfrm>
            <a:off x="4500720" y="4756320"/>
            <a:ext cx="1218960" cy="205092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12" descr=""/>
          <p:cNvPicPr/>
          <p:nvPr/>
        </p:nvPicPr>
        <p:blipFill>
          <a:blip r:embed="rId5"/>
          <a:stretch/>
        </p:blipFill>
        <p:spPr>
          <a:xfrm>
            <a:off x="6516720" y="4703760"/>
            <a:ext cx="1558800" cy="1797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SRU</cp:lastModifiedBy>
  <dcterms:modified xsi:type="dcterms:W3CDTF">2012-11-05T15:57:37Z</dcterms:modified>
  <cp:revision>95</cp:revision>
  <dc:subject/>
  <dc:title>KOREAN LANGUAGE</dc:title>
</cp:coreProperties>
</file>